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breeze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43D-BBF3-4CA7-BCFD-A1B9BBA9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0B8-9CB4-4AA8-A9E2-49EDFB15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FCD-6DBF-4330-A384-C18A27EE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6E3-6806-4848-AF79-33110110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283B-7172-40AE-84EC-F4D2CFFF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5571-552E-455E-9C26-8749949C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6DE2-130C-4B46-A995-1E6D8EB9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7CF0-32CA-40B5-A10E-8C3866B2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E120-2B89-4260-8A1F-05A75BD3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404B-709A-4991-9F5E-7ED8AB1B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687F-0B00-45DE-BA9A-3D4D465E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E0A-2B51-41B9-B03E-99A9B7A5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7B57-C760-46DB-8A42-66FEFF29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531C-4C14-4F36-BA5E-8C49816E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1C07-533E-4185-934E-2F557AFF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A34C-CFD2-4CF7-A93D-8116D67A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62C9-A7C7-4B1F-A738-7405B8BD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B6211-E369-4AD5-9E1A-BF3C59D0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08D56-1BA3-4D71-85E2-A529D546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61AA2-F6D8-4B3B-A0F8-775A9E79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8C2FC-7C0A-4033-9C88-03090A64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B421-7D38-486C-9F83-061B20C2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4A9-1444-40A6-9076-0DB20B1B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8EB4F-3304-452A-B167-AB79B4E4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B927-DB5C-4EDC-8E6D-4B5BBF96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A0857-2B85-4A32-8C7D-4E98803D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51F4-C929-470C-9CF5-5AA997A8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A88E-9BDC-4141-B862-06D037E0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770FE-9213-459A-8BA8-EA3D895C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3EEAF-CDD0-40C7-B9B2-4786C55A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13BCF-D10C-4443-99D2-AC273998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F2431-6657-452B-947B-1D052DBE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007C4-F2F7-4E28-94B1-A08E34BB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8FC-652E-44EF-A703-DD8EFE94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43C36-4494-4183-812C-F6E421A3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5C03B-470A-45C6-B541-8FA7B3D7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C37FE-B31F-4422-9230-193E4B40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5E309-57A6-4CC1-9DB2-C956DB30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526D-FB01-4395-861C-58828AF2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19506-E85A-4F61-A77B-DD9C0723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21729-859B-4128-8259-C54EA2A5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27886-DF7A-4BB7-90C1-B93449DD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DC1D-91AC-446D-B66A-DB52D598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B4AFC-23B2-414F-961B-3CD65CFC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81A-194A-4D1E-9F47-4CE47B74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039A3-B2E1-4A5D-AB97-B3A28FB6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C52D4-6215-4049-AE9D-AEDCE144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82AD1-7018-4949-A7CF-28589902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16479-2D10-468E-A3ED-706361B3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CC383-4CA3-4254-BE1B-6476EC17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4CED1-707B-4BFF-9C0E-A1DED603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3E77C-6437-4416-9D99-7C006F01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A273B-B967-4A44-BB99-E754604D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27819-2B0F-449F-A318-B73D500F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D451B-A6B1-4E0D-906F-A0138666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E27-1604-4A55-9181-93344A2A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6A010-C648-4F0C-BDD0-CCD2CB52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BFFB9-BD75-4DBA-93CF-BA4D0ACC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E7191-C04B-406C-ADFE-C3EBB6F6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8EEFA-C7E7-4C82-89FE-5158360A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36690-899D-476A-818B-D12EF820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02CF2-92E6-4DAE-AAB9-3A759BEB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E0FDA-B0FC-474E-9AAA-9D71EAC8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1EE4B-0685-4D2C-9E0E-229B6A80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2F679-E0C7-4597-B0AD-6EC270A9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0226B-04CE-4654-8E76-EEEB1BB2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CA3-9FB3-40D7-909F-95ED4683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515C5-B358-4F6F-AC6B-D489F48D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3A590-D496-486E-A724-1E4BB824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D56CA-68C2-404B-ADCD-73A7B4B6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05DFD-2709-420D-B685-3984F130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F97BF-173B-4243-AF41-3AE63064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0E9CC-CE3F-4EEB-8973-EFF2157A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5734C-DA74-424D-AB5D-8190CDBE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CFEC4-C982-499D-91DD-F08BB06C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D9E4C-5D02-4504-AD7C-2A12849C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074F4-97BC-45AA-9C3F-839C2493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93C-7C71-45BE-AA20-79CA72D3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4D2BB-4BDA-4D1F-A4E3-4E30D666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986CD-D099-44F1-8043-5B523DB8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CD158-0814-4B32-B7B1-FA6A27E5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41ED5-271D-438B-8FE4-E1CB9AEE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B81C7-B803-43ED-A152-A721399C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240-1285-4A6F-ACD8-08F4654D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3D4F-0719-4C4E-92BD-6475AC9A61A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3B7F-147B-4367-9132-2A9EBF6045B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BFB3-D289-4737-B836-F3E232D2C6A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2532-B881-40E4-A9E6-A689940716C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510C-C9EC-4C47-83A7-4F2E4D4314C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9FCD-E04A-4F96-A077-292ECFC9139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98C0-4AAC-4709-AA2F-DD5FE23AE07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rett Gleas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dissolve/>
    <p:sndAc>
      <p:stSnd>
        <p:snd r:embed="rId2" name="breez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asic Fac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 was born on May 10,1838 and died on April 26,1865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dissolve/>
    <p:sndAc>
      <p:stSnd>
        <p:snd r:embed="rId1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duc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 attended Bandera school in Texas hill country, he was educated in the classic and particular  Shakespeare school as a chil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 attended college/university when I was older.  I did not attend any collag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dissolve/>
    <p:sndAc>
      <p:stSnd>
        <p:snd r:embed="rId1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ccomplishmen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y greatest accomplishment, or what I was mostly known for is I assassinated Abraham Lincol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other important accomplishment was I was also a stage actor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third important accomplishment was I was a part of a conspiracy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dissolve/>
    <p:sndAc>
      <p:stSnd>
        <p:snd r:embed="rId1" name="breez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 AM… John Wilkes Booth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7" name="Picture 5" descr="http://www.eyewitnesstohistory.com/images/bo01.jpg"/>
          <p:cNvPicPr/>
          <p:nvPr/>
        </p:nvPicPr>
        <p:blipFill>
          <a:blip r:embed="rId1"/>
          <a:stretch/>
        </p:blipFill>
        <p:spPr>
          <a:xfrm>
            <a:off x="3816360" y="2774880"/>
            <a:ext cx="19684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reez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8:54:38Z</dcterms:created>
  <dc:creator> </dc:creator>
  <dc:description/>
  <dc:language>en-US</dc:language>
  <cp:lastModifiedBy> </cp:lastModifiedBy>
  <dcterms:modified xsi:type="dcterms:W3CDTF">2009-02-06T17:57:21Z</dcterms:modified>
  <cp:revision>15</cp:revision>
  <dc:subject/>
  <dc:title>Who Am I?</dc:title>
</cp:coreProperties>
</file>